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31.gif" ContentType="image/gif"/>
  <Override PartName="/ppt/media/Ernesto%20Cartazar-Secret%20Love602ko4.07mns.wav" ContentType="audio/x-wav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B01-9F0D-4515-A893-D9ABE9FA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AEE-6B45-4A86-A481-5EDEDB0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04A-145D-4000-94BA-5C68657F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2A0-5B95-4438-9293-25650F10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C60-3E1E-4596-828E-12F0AA6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46F-A75C-44BC-9E76-B00AA67E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CE5-A82E-4806-826D-B2B1886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F10-8E27-4844-9572-F49D58B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D3B-80D2-4FE9-96DE-096F39D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000-2917-46F8-9BDA-F8A8647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02F-6885-45D9-BA4F-A083F85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442-0CE9-4845-ABB1-CBD32D8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0440-8AA6-4673-8BF5-E4D593A5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rnesto%20Cartazar-Secret%20Love602ko4.07mn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-4680"/>
            <a:ext cx="8675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" descr=""/>
          <p:cNvPicPr/>
          <p:nvPr/>
        </p:nvPicPr>
        <p:blipFill>
          <a:blip r:embed="rId1"/>
          <a:stretch/>
        </p:blipFill>
        <p:spPr>
          <a:xfrm>
            <a:off x="1143000" y="34308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3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1" descr=""/>
          <p:cNvPicPr/>
          <p:nvPr/>
        </p:nvPicPr>
        <p:blipFill>
          <a:blip r:embed="rId1"/>
          <a:stretch/>
        </p:blipFill>
        <p:spPr>
          <a:xfrm>
            <a:off x="285840" y="1128600"/>
            <a:ext cx="857232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5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15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17" descr=""/>
          <p:cNvPicPr/>
          <p:nvPr/>
        </p:nvPicPr>
        <p:blipFill>
          <a:blip r:embed="rId1"/>
          <a:stretch/>
        </p:blipFill>
        <p:spPr>
          <a:xfrm>
            <a:off x="1571760" y="-233280"/>
            <a:ext cx="600048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" descr=""/>
          <p:cNvPicPr/>
          <p:nvPr/>
        </p:nvPicPr>
        <p:blipFill>
          <a:blip r:embed="rId1"/>
          <a:stretch/>
        </p:blipFill>
        <p:spPr>
          <a:xfrm>
            <a:off x="2438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8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67752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9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20" descr=""/>
          <p:cNvPicPr/>
          <p:nvPr/>
        </p:nvPicPr>
        <p:blipFill>
          <a:blip r:embed="rId1"/>
          <a:stretch/>
        </p:blipFill>
        <p:spPr>
          <a:xfrm>
            <a:off x="1066680" y="-61920"/>
            <a:ext cx="701064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2" descr=""/>
          <p:cNvPicPr/>
          <p:nvPr/>
        </p:nvPicPr>
        <p:blipFill>
          <a:blip r:embed="rId1"/>
          <a:stretch/>
        </p:blipFill>
        <p:spPr>
          <a:xfrm>
            <a:off x="533520" y="-23760"/>
            <a:ext cx="80769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3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24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2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2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otos%20varias%20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otos%20varias%201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" descr=""/>
          <p:cNvPicPr/>
          <p:nvPr/>
        </p:nvPicPr>
        <p:blipFill>
          <a:blip r:embed="rId1"/>
          <a:stretch/>
        </p:blipFill>
        <p:spPr>
          <a:xfrm>
            <a:off x="1981080" y="0"/>
            <a:ext cx="494676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ourte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70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9360" y="61722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ffcc00"/>
                </a:solidFill>
                <a:latin typeface="Arial"/>
              </a:rPr>
              <a:t>Dédé 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" descr=""/>
          <p:cNvPicPr/>
          <p:nvPr/>
        </p:nvPicPr>
        <p:blipFill>
          <a:blip r:embed="rId1"/>
          <a:stretch/>
        </p:blipFill>
        <p:spPr>
          <a:xfrm>
            <a:off x="1397160" y="222120"/>
            <a:ext cx="6349680" cy="64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534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7" descr=""/>
          <p:cNvPicPr/>
          <p:nvPr/>
        </p:nvPicPr>
        <p:blipFill>
          <a:blip r:embed="rId1"/>
          <a:stretch/>
        </p:blipFill>
        <p:spPr>
          <a:xfrm>
            <a:off x="1324080" y="290520"/>
            <a:ext cx="6495840" cy="627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9:51:16Z</dcterms:created>
  <dc:creator>vivi22</dc:creator>
  <dc:description>pour faire rêver</dc:description>
  <dc:language>en-US</dc:language>
  <cp:lastModifiedBy>Smets</cp:lastModifiedBy>
  <dcterms:modified xsi:type="dcterms:W3CDTF">2009-12-12T18:40:38Z</dcterms:modified>
  <cp:revision>7</cp:revision>
  <dc:subject/>
  <dc:title>Pour le plaisir des yeux</dc:title>
</cp:coreProperties>
</file>