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2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31.gif" ContentType="image/gif"/>
  <Override PartName="/ppt/media/Ernesto%20Cartazar-Secret%20Love602ko4.07mns.wav" ContentType="audio/x-wav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D43-D3FE-47DE-9E90-1D41565E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EC9-9FEE-474C-827A-B73F839F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7FB-9754-4725-9A07-F7DEAE7D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7F1-E452-49EB-BF37-33D1F3B2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5E1-60F1-4C10-B61A-E1F47FD4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7E1-22E5-4133-B702-50105843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339-A9C1-4196-B380-ED6FF85E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2C2-1F26-4DFF-9545-A524ECD8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6F9-F893-4E26-BBE5-EFA56D9B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914-FF61-4785-833D-F4D09E70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422-148C-446A-A362-9B87B03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376-4E5A-4182-B01D-BD3F1EE7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223C-3ED6-4AD7-8D36-7A4F05CC1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rnesto%20Cartazar-Secret%20Love602ko4.07mn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-4680"/>
            <a:ext cx="867564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" descr=""/>
          <p:cNvPicPr/>
          <p:nvPr/>
        </p:nvPicPr>
        <p:blipFill>
          <a:blip r:embed="rId1"/>
          <a:stretch/>
        </p:blipFill>
        <p:spPr>
          <a:xfrm>
            <a:off x="1143000" y="343080"/>
            <a:ext cx="6858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9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3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10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5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11" descr=""/>
          <p:cNvPicPr/>
          <p:nvPr/>
        </p:nvPicPr>
        <p:blipFill>
          <a:blip r:embed="rId1"/>
          <a:stretch/>
        </p:blipFill>
        <p:spPr>
          <a:xfrm>
            <a:off x="285840" y="1128600"/>
            <a:ext cx="8572320" cy="46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773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13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14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5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15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1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17" descr=""/>
          <p:cNvPicPr/>
          <p:nvPr/>
        </p:nvPicPr>
        <p:blipFill>
          <a:blip r:embed="rId1"/>
          <a:stretch/>
        </p:blipFill>
        <p:spPr>
          <a:xfrm>
            <a:off x="1571760" y="-233280"/>
            <a:ext cx="6000480" cy="73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" descr=""/>
          <p:cNvPicPr/>
          <p:nvPr/>
        </p:nvPicPr>
        <p:blipFill>
          <a:blip r:embed="rId1"/>
          <a:stretch/>
        </p:blipFill>
        <p:spPr>
          <a:xfrm>
            <a:off x="2438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18" descr=""/>
          <p:cNvPicPr/>
          <p:nvPr/>
        </p:nvPicPr>
        <p:blipFill>
          <a:blip r:embed="rId1"/>
          <a:stretch/>
        </p:blipFill>
        <p:spPr>
          <a:xfrm>
            <a:off x="-228600" y="533520"/>
            <a:ext cx="9677520" cy="56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19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20" descr=""/>
          <p:cNvPicPr/>
          <p:nvPr/>
        </p:nvPicPr>
        <p:blipFill>
          <a:blip r:embed="rId1"/>
          <a:stretch/>
        </p:blipFill>
        <p:spPr>
          <a:xfrm>
            <a:off x="1066680" y="-61920"/>
            <a:ext cx="7010640" cy="69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2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2" descr=""/>
          <p:cNvPicPr/>
          <p:nvPr/>
        </p:nvPicPr>
        <p:blipFill>
          <a:blip r:embed="rId1"/>
          <a:stretch/>
        </p:blipFill>
        <p:spPr>
          <a:xfrm>
            <a:off x="533520" y="-23760"/>
            <a:ext cx="807696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23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24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2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25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otos%20varias%20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3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Fotos%20varias%2011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" descr=""/>
          <p:cNvPicPr/>
          <p:nvPr/>
        </p:nvPicPr>
        <p:blipFill>
          <a:blip r:embed="rId1"/>
          <a:stretch/>
        </p:blipFill>
        <p:spPr>
          <a:xfrm>
            <a:off x="1981080" y="0"/>
            <a:ext cx="494676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ourte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70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9360" y="617220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ffcc00"/>
                </a:solidFill>
                <a:latin typeface="Arial"/>
              </a:rPr>
              <a:t>Dédé 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9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4" descr=""/>
          <p:cNvPicPr/>
          <p:nvPr/>
        </p:nvPicPr>
        <p:blipFill>
          <a:blip r:embed="rId1"/>
          <a:stretch/>
        </p:blipFill>
        <p:spPr>
          <a:xfrm>
            <a:off x="1397160" y="222120"/>
            <a:ext cx="6349680" cy="64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5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6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95348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7" descr=""/>
          <p:cNvPicPr/>
          <p:nvPr/>
        </p:nvPicPr>
        <p:blipFill>
          <a:blip r:embed="rId1"/>
          <a:stretch/>
        </p:blipFill>
        <p:spPr>
          <a:xfrm>
            <a:off x="1324080" y="290520"/>
            <a:ext cx="6495840" cy="627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9:51:16Z</dcterms:created>
  <dc:creator>vivi22</dc:creator>
  <dc:description>pour faire rêver</dc:description>
  <dc:language>en-US</dc:language>
  <cp:lastModifiedBy>Smets</cp:lastModifiedBy>
  <dcterms:modified xsi:type="dcterms:W3CDTF">2009-12-12T18:40:38Z</dcterms:modified>
  <cp:revision>7</cp:revision>
  <dc:subject/>
  <dc:title>Pour le plaisir des yeux</dc:title>
</cp:coreProperties>
</file>