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CA8-054E-46DB-A143-2C8A6366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CF2-30D9-47F7-942A-207DA3A9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F84-8C88-48B7-895B-0C57CC75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074-8322-4846-A1E8-8DC0C2CF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C3C-AF98-4E79-84D9-3B2428AB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322-7C39-4CA9-BC2B-FE90CE9B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3CB-F0E9-4B17-B100-8E0CCD02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AA4-66F8-4C84-8EA9-48B1E957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0C6-850F-4F90-BB2B-C96DBCA7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958-2819-441D-98E9-B1516D3A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680-F7C8-4539-9B89-9B43F20D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4C1-59C8-452D-866A-55B9063B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C36E-2C07-4BC9-9CBE-8E8B021790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hyperlink" Target="file:///../../&#1601;&#1607;&#1585;&#1587;%20&#1575;&#1604;&#1578;&#1585;&#1575;&#1606;&#1610;&#1605;.pps" TargetMode="External"/><Relationship Id="rId5" Type="http://schemas.openxmlformats.org/officeDocument/2006/relationships/image" Target="../media/image5.jpeg"/><Relationship Id="rId6" Type="http://schemas.openxmlformats.org/officeDocument/2006/relationships/slide" Target="slide1.xm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b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3476520"/>
            <a:ext cx="80089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يس من عصف شدي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6640" y="4467240"/>
            <a:ext cx="800892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 يسكت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2760" y="1316160"/>
            <a:ext cx="82375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يس من صعب أو ضي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7720" y="2306520"/>
            <a:ext cx="823752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 يغلب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b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87480" y="2328840"/>
            <a:ext cx="708660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 يملك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01600" y="1201680"/>
            <a:ext cx="70866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يس من سؤل بعي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1680" y="3362400"/>
            <a:ext cx="84582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يس من حزن عمي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5800" y="4429080"/>
            <a:ext cx="845820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 يمسح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b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2560" cy="678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112680" y="127800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إن كان حزنَنا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قد حمل على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3660840"/>
            <a:ext cx="61041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إنه سوف يحمل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إن كان حزننا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92">
            <a:hlinkClick r:id="rId4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ليس من صع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20:27:07Z</dcterms:created>
  <dc:creator/>
  <dc:description/>
  <dc:language>en-US</dc:language>
  <cp:lastModifiedBy>Sp2</cp:lastModifiedBy>
  <dcterms:modified xsi:type="dcterms:W3CDTF">2009-01-21T12:21:45Z</dcterms:modified>
  <cp:revision>18</cp:revision>
  <dc:subject/>
  <dc:title>PowerPoint Presentation</dc:title>
</cp:coreProperties>
</file>