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1130-33C3-45FC-9042-CDD502A67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3457-E3E8-4544-B35D-A6A404B4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AA51-5055-4A83-ADF1-3E85EC655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8BAB-969D-4C95-8D81-0CB7CBC02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E2F6-8FC6-48F6-B33B-12D628E2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06D8-EB72-426A-8B66-C31642A9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B8BF-81A0-4755-B281-683C84BF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32F4-4D8E-4E96-A19A-8632DDC4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9D4D-7139-4EDA-8B72-915052BA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24CE-69BD-4BA8-A7D4-A74F4351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FAE7-7B29-432D-8B90-C2548AD6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DC9E-0FF7-4D3D-9B8D-CC0CAE2F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F463-5874-4B3F-BD9F-2510495AD8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hyperlink" Target="file:///../../&#1601;&#1607;&#1585;&#1587;%20&#1575;&#1604;&#1578;&#1585;&#1575;&#1606;&#1610;&#1605;.pps" TargetMode="External"/><Relationship Id="rId5" Type="http://schemas.openxmlformats.org/officeDocument/2006/relationships/image" Target="../media/image5.jpeg"/><Relationship Id="rId6" Type="http://schemas.openxmlformats.org/officeDocument/2006/relationships/slide" Target="slide1.xm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b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3476520"/>
            <a:ext cx="800892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يس من عصف شديد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66640" y="4467240"/>
            <a:ext cx="8008920" cy="11898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ا يسكت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2760" y="1316160"/>
            <a:ext cx="823752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يس من صعب أو ضي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7720" y="2306520"/>
            <a:ext cx="8237520" cy="11898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ا يغلب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b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87480" y="2328840"/>
            <a:ext cx="7086600" cy="11898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ا يملك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01600" y="1201680"/>
            <a:ext cx="708660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يس من سؤل بعيد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1680" y="3362400"/>
            <a:ext cx="845820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يس من حزن عمي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5800" y="4429080"/>
            <a:ext cx="8458200" cy="11898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ا يمسح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b4b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2560" cy="6781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-112680" y="1278000"/>
            <a:ext cx="9144000" cy="338436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إن كان حزنَنا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قد حمل على الصلي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3660840"/>
            <a:ext cx="610416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فإنه سوف يحمل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  <a:ea typeface="Arial"/>
              </a:rPr>
              <a:t> القرار : إن كان حزننا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92">
            <a:hlinkClick r:id="rId4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6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ليس من صع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2T20:27:07Z</dcterms:created>
  <dc:creator/>
  <dc:description/>
  <dc:language>en-US</dc:language>
  <cp:lastModifiedBy>Sp2</cp:lastModifiedBy>
  <dcterms:modified xsi:type="dcterms:W3CDTF">2009-01-21T12:21:45Z</dcterms:modified>
  <cp:revision>18</cp:revision>
  <dc:subject/>
  <dc:title>PowerPoint Presentation</dc:title>
</cp:coreProperties>
</file>