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7.jpeg" ContentType="image/jpeg"/>
  <Override PartName="/ppt/media/image4.wmf" ContentType="image/x-wmf"/>
  <Override PartName="/ppt/media/image26.jpeg" ContentType="image/jpeg"/>
  <Override PartName="/ppt/media/image19.png" ContentType="image/png"/>
  <Override PartName="/ppt/media/image1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294813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2289BD0-E270-4B46-B45A-2264F8F18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AECA1A-18C7-4B61-95FD-77F6FDE7A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DF854E3-863C-4C75-95BC-EB0322E84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CC22F31-454A-4751-A28B-0F661A6F0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DE4AB9-831B-4029-9B1C-84938B926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836AA41-E2C9-47B8-B2C7-634B7967E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097438-3779-430E-ABA5-03C41FA86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3FDB452-A20E-4A89-A2E0-AAB62026A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D9DD864-B24C-4853-B792-C8A224017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48D9C9-03B0-489D-9079-174472E89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5E86C3-2224-4111-8678-5D818F485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1C73BB-A4BF-4844-B19C-5649620DF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A36913-492F-4EFD-B781-2DA5A6E78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E262C3-73E3-4E5D-9407-16CCD776B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E97D6F-51A7-4213-9BF8-653C92ED4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9D10B8-1676-4D02-B951-02B4B2F4B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4DCB5C4-BE1B-4FA5-88CE-A8B3D6EE2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4AB1A4-DC0B-4C9C-876B-9122D666A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FD7A43A-801A-4642-BC92-73DE415AF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F4EFBA-98E7-44A6-927A-DC27E9268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7944DB-0B22-44A4-A176-C1679F06C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8999F71-8B8B-4259-990F-0A0773738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6E48C61-6CA5-41C6-B5A6-4B6A972BE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1C6D961-0BD0-46BB-A98E-0811D6619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1C833BE-0CA6-4FF1-9B91-49A590AAB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8"/>
          <p:cNvSpPr/>
          <p:nvPr/>
        </p:nvSpPr>
        <p:spPr>
          <a:xfrm>
            <a:off x="0" y="838080"/>
            <a:ext cx="1400040" cy="5639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Line 21"/>
          <p:cNvSpPr/>
          <p:nvPr/>
        </p:nvSpPr>
        <p:spPr>
          <a:xfrm>
            <a:off x="380880" y="762120"/>
            <a:ext cx="82296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Line 22"/>
          <p:cNvSpPr/>
          <p:nvPr/>
        </p:nvSpPr>
        <p:spPr>
          <a:xfrm>
            <a:off x="380880" y="839880"/>
            <a:ext cx="6705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Line 23"/>
          <p:cNvSpPr/>
          <p:nvPr/>
        </p:nvSpPr>
        <p:spPr>
          <a:xfrm>
            <a:off x="533520" y="6553080"/>
            <a:ext cx="82296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Line 24"/>
          <p:cNvSpPr/>
          <p:nvPr/>
        </p:nvSpPr>
        <p:spPr>
          <a:xfrm>
            <a:off x="1447920" y="6477120"/>
            <a:ext cx="731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AutoShape 25"/>
          <p:cNvSpPr/>
          <p:nvPr/>
        </p:nvSpPr>
        <p:spPr>
          <a:xfrm>
            <a:off x="1752480" y="304920"/>
            <a:ext cx="5181840" cy="304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rebuchet MS"/>
              </a:rPr>
              <a:t>PT. PLN (Persero) Udiklat Semarang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" name="Group 37"/>
          <p:cNvGrpSpPr/>
          <p:nvPr/>
        </p:nvGrpSpPr>
        <p:grpSpPr>
          <a:xfrm>
            <a:off x="7345800" y="0"/>
            <a:ext cx="1297800" cy="733680"/>
            <a:chOff x="7345800" y="0"/>
            <a:chExt cx="1297800" cy="733680"/>
          </a:xfrm>
        </p:grpSpPr>
        <p:pic>
          <p:nvPicPr>
            <p:cNvPr id="7" name="Picture 31" descr="PLN Baru juga"/>
            <p:cNvPicPr/>
            <p:nvPr/>
          </p:nvPicPr>
          <p:blipFill>
            <a:blip r:embed="rId3"/>
            <a:stretch/>
          </p:blipFill>
          <p:spPr>
            <a:xfrm>
              <a:off x="7607160" y="0"/>
              <a:ext cx="7714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34"/>
            <p:cNvSpPr/>
            <p:nvPr/>
          </p:nvSpPr>
          <p:spPr>
            <a:xfrm>
              <a:off x="7345800" y="457200"/>
              <a:ext cx="129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Trebuchet MS"/>
                </a:rPr>
                <a:t>ISO 9001 - 2000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" name="Text Box 42"/>
          <p:cNvSpPr/>
          <p:nvPr/>
        </p:nvSpPr>
        <p:spPr>
          <a:xfrm>
            <a:off x="762120" y="99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" name="Picture 160" descr="PLN1"/>
          <p:cNvPicPr/>
          <p:nvPr/>
        </p:nvPicPr>
        <p:blipFill>
          <a:blip r:embed="rId4"/>
          <a:stretch/>
        </p:blipFill>
        <p:spPr>
          <a:xfrm>
            <a:off x="384120" y="76320"/>
            <a:ext cx="453960" cy="60948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61"/>
          <p:cNvSpPr/>
          <p:nvPr/>
        </p:nvSpPr>
        <p:spPr>
          <a:xfrm rot="16200000">
            <a:off x="-1827720" y="3061440"/>
            <a:ext cx="46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Monotype Corsiva"/>
              </a:rPr>
              <a:t>Dasar Sistem Scada  Jaringan Distribus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Text Box 162"/>
          <p:cNvSpPr/>
          <p:nvPr/>
        </p:nvSpPr>
        <p:spPr>
          <a:xfrm>
            <a:off x="-98280" y="5992920"/>
            <a:ext cx="13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c00"/>
                </a:solidFill>
                <a:latin typeface="Trebuchet MS"/>
              </a:rPr>
              <a:t>Udiklat Semarang 2007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" Target="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09480" y="12193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Text Box 52"/>
          <p:cNvSpPr/>
          <p:nvPr/>
        </p:nvSpPr>
        <p:spPr>
          <a:xfrm>
            <a:off x="3657600" y="236232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Line 54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Rectangle 1932"/>
          <p:cNvSpPr/>
          <p:nvPr/>
        </p:nvSpPr>
        <p:spPr>
          <a:xfrm>
            <a:off x="4343400" y="26665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Ruly Chaerul 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Lucida Sans Unicode"/>
              </a:rPr>
              <a:t>rchaerul@pln.co.id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Lucida Sans Unicode"/>
              </a:rPr>
              <a:t>                    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Lucida Sans Unicode"/>
              </a:rPr>
              <a:t>chaerul95@yahoo.co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Rectangle 1933"/>
          <p:cNvSpPr/>
          <p:nvPr/>
        </p:nvSpPr>
        <p:spPr>
          <a:xfrm>
            <a:off x="2209680" y="1736640"/>
            <a:ext cx="64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DASAR SISTEM SCADA</a:t>
            </a: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JARINGAN DISTRIBUSI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Rectangle 1934"/>
          <p:cNvSpPr/>
          <p:nvPr/>
        </p:nvSpPr>
        <p:spPr>
          <a:xfrm>
            <a:off x="5381640" y="3517560"/>
            <a:ext cx="3686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PT. PLN (Persero) Distribusi Bali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Area Pengatur Distribusi Bali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JL. Diponegoro 17 Denpasar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www.plnbali.co.id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Rectangle 1935"/>
          <p:cNvSpPr/>
          <p:nvPr/>
        </p:nvSpPr>
        <p:spPr>
          <a:xfrm>
            <a:off x="2108880" y="5199840"/>
            <a:ext cx="60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</a:rPr>
              <a:t>PT. PLN  Udiklat   Semarang   Juni  200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066680" y="9144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9600" indent="-457200">
              <a:lnSpc>
                <a:spcPct val="150000"/>
              </a:lnSpc>
              <a:spcBef>
                <a:spcPts val="451"/>
              </a:spcBef>
              <a:buClr>
                <a:srgbClr val="3333cc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gsi Tele Meter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752480" y="16002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Arus </a:t>
            </a:r>
            <a:r>
              <a:rPr b="0" lang="en-GB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52480" y="33526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Tegangan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133720" y="2209680"/>
            <a:ext cx="5790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Fasa RST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rus rata-rata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133720" y="3809880"/>
            <a:ext cx="44193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 Fasa RST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gangan rata-ra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egangan Unbala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6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14400" y="2286000"/>
            <a:ext cx="80010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engelola seluruh sumber-day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nyediakan sekumpulan layanan (</a:t>
            </a:r>
            <a:r>
              <a:rPr b="0" i="1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ystem calls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Rectangle 3"/>
          <p:cNvSpPr/>
          <p:nvPr/>
        </p:nvSpPr>
        <p:spPr>
          <a:xfrm flipV="1" rot="10803600">
            <a:off x="1364400" y="4417200"/>
            <a:ext cx="747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istem operasi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merupakan sebuah penghubung antara pengguna dari komputer dengan perangkat keras komputer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38080" y="990720"/>
            <a:ext cx="808848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PERATING SIST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050840" y="1716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85800" y="1752480"/>
            <a:ext cx="2133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Konsep Dasa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990720" y="3886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Definisi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050"/>
          <p:cNvSpPr/>
          <p:nvPr/>
        </p:nvSpPr>
        <p:spPr>
          <a:xfrm>
            <a:off x="1066680" y="91440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Software  Operation Sistem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Text Box 2051"/>
          <p:cNvSpPr/>
          <p:nvPr/>
        </p:nvSpPr>
        <p:spPr>
          <a:xfrm>
            <a:off x="1600200" y="1447920"/>
            <a:ext cx="556272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udah Pengoperasia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UI Guide User Interfa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W tidak spesif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25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icence SW nya maha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ura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usah Pengoperasiannya ( program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ngembangan program tidak licenc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W tidak spesif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W harus spesifi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arga Maha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usah Pengoperasia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066680" y="91440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Software  Sistem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Scad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600200" y="1447920"/>
            <a:ext cx="5562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te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o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ybry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rval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a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ower C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tter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C Ser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55000"/>
              </a:lnSpc>
              <a:buClr>
                <a:srgbClr val="cc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rebuchet MS"/>
              </a:rPr>
              <a:t>DMS ( Distribution Management System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62120" y="9907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Jaringan</a:t>
            </a: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 Komputer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71600" y="1774800"/>
            <a:ext cx="55627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N (Local Area Network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AN (Metropolitan Area Network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AN ( Wide Area Network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Jaringan Tanpa Kabel (Wireless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066680" y="43434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Keuntung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523880" y="5070600"/>
            <a:ext cx="55627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source Shar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alibilitas Tingg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7239240" cy="5031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3559320" cy="480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306000" y="838080"/>
            <a:ext cx="49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onotype Corsiva"/>
              </a:rPr>
              <a:t>Contoh Software Master Station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1066680" y="9144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Media Komunikasi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371600" y="1774800"/>
            <a:ext cx="55627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bel ( Pilot Cable, RS 232,RS 485 &amp; PLC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ber Opti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crowi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1066680" y="9144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Komunikasi Data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981080" y="2743200"/>
            <a:ext cx="609624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otoko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rebuchet MS"/>
                <a:ea typeface="Tahoma"/>
              </a:rPr>
              <a:t>TX [18:54:07] [ 02 01 10 20 00 39 F9 21 ]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       </a:t>
            </a:r>
            <a:r>
              <a:rPr b="0" lang="sv-SE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RX 18:54:07] [ 02 01 08 00 00 42 08 00 00 02 01 15 1A ]</a:t>
            </a: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 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dbus Serial / IP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3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NP3 Serial / IP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3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EC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101,103 104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5410440" cy="4442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1431720" y="1479600"/>
            <a:ext cx="5085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ngiri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nerim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tokol ( aturan dalam komunikasi data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26"/>
          <p:cNvSpPr/>
          <p:nvPr/>
        </p:nvSpPr>
        <p:spPr>
          <a:xfrm>
            <a:off x="1066680" y="9144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Monotype Corsiva"/>
              </a:rPr>
              <a:t>Komunikasi  Front End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Rectangle 1030"/>
          <p:cNvSpPr/>
          <p:nvPr/>
        </p:nvSpPr>
        <p:spPr>
          <a:xfrm>
            <a:off x="1219320" y="266688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CADA communication port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Rectangle 1032"/>
          <p:cNvSpPr/>
          <p:nvPr/>
        </p:nvSpPr>
        <p:spPr>
          <a:xfrm>
            <a:off x="1562040" y="3048120"/>
            <a:ext cx="297180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thernet IEC 60870-5-104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EC 60870-5-10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NP3.0 Level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DBUS RTU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Text Box 1033"/>
          <p:cNvSpPr/>
          <p:nvPr/>
        </p:nvSpPr>
        <p:spPr>
          <a:xfrm>
            <a:off x="1066680" y="1362240"/>
            <a:ext cx="789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omunikasi antara Master Station dengan Remote Terminal Un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Yang fungsinya mempolling seluruh RTU/ pengolah komunikas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Rectangle 1034"/>
          <p:cNvSpPr/>
          <p:nvPr/>
        </p:nvSpPr>
        <p:spPr>
          <a:xfrm>
            <a:off x="4838760" y="266688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ED Interfacing Capability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Rectangle 1035"/>
          <p:cNvSpPr/>
          <p:nvPr/>
        </p:nvSpPr>
        <p:spPr>
          <a:xfrm>
            <a:off x="5143680" y="3048120"/>
            <a:ext cx="297180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thernet IEC 60870-5-103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EC 60870-5-10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NP3.0 Level 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DBUS RTU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Rectangle 1036"/>
          <p:cNvSpPr/>
          <p:nvPr/>
        </p:nvSpPr>
        <p:spPr>
          <a:xfrm>
            <a:off x="1295280" y="480060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Untuk komunikasi dengan peralatan Master Terminal Unit menggunakan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Rectangle 1037"/>
          <p:cNvSpPr/>
          <p:nvPr/>
        </p:nvSpPr>
        <p:spPr>
          <a:xfrm>
            <a:off x="1600200" y="525780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CP/IP (</a:t>
            </a:r>
            <a:r>
              <a:rPr b="0" i="1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ransfer Control Protocol)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23880" y="1625760"/>
            <a:ext cx="5486400" cy="4317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050"/>
          <p:cNvSpPr/>
          <p:nvPr/>
        </p:nvSpPr>
        <p:spPr>
          <a:xfrm>
            <a:off x="609480" y="1066680"/>
            <a:ext cx="37339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Maksud &amp; Tujua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Text Box 2051"/>
          <p:cNvSpPr/>
          <p:nvPr/>
        </p:nvSpPr>
        <p:spPr>
          <a:xfrm>
            <a:off x="954000" y="1708200"/>
            <a:ext cx="66650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ngetahui Dasar Sistem SCADA jaringan Distribus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ngertian umum SCAD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alatan sistem SCAD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information da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angkat lunak sistem SCAD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a Komunikas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Text Box 2052"/>
          <p:cNvSpPr/>
          <p:nvPr/>
        </p:nvSpPr>
        <p:spPr>
          <a:xfrm>
            <a:off x="136440" y="476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-13792320" y="1219320"/>
            <a:ext cx="22082400" cy="5072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806400" y="762120"/>
            <a:ext cx="8109000" cy="554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990720" y="1749600"/>
            <a:ext cx="4343400" cy="320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2798640" cy="46479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679680" y="9460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Interfacing RTU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376360" cy="4267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2967120" cy="38098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668600" y="160020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PAM 1000+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231080" y="35812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RELE I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5815080" y="137160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PROTEC 7SJ602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990720" y="2314440"/>
            <a:ext cx="7162560" cy="1419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830880" y="106668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RTU Concentrator…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076560" cy="3371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646440" cy="3886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1981440" y="1066680"/>
            <a:ext cx="40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WER METER OUTGO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32200" y="5759280"/>
            <a:ext cx="24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rebuchet MS"/>
              </a:rPr>
              <a:t>PM 500 DAN 800 SER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175000" y="5715000"/>
            <a:ext cx="213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rebuchet MS"/>
              </a:rPr>
              <a:t>PM ION 6200 SERI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8"/>
          <p:cNvPicPr/>
          <p:nvPr/>
        </p:nvPicPr>
        <p:blipFill>
          <a:blip r:embed="rId1"/>
          <a:stretch/>
        </p:blipFill>
        <p:spPr>
          <a:xfrm>
            <a:off x="1371600" y="1069920"/>
            <a:ext cx="7543800" cy="5102280"/>
          </a:xfrm>
          <a:prstGeom prst="rect">
            <a:avLst/>
          </a:prstGeom>
          <a:ln w="0">
            <a:noFill/>
          </a:ln>
        </p:spPr>
      </p:pic>
      <p:sp>
        <p:nvSpPr>
          <p:cNvPr id="229" name="WordArt 3"/>
          <p:cNvSpPr txBox="1"/>
          <p:nvPr/>
        </p:nvSpPr>
        <p:spPr>
          <a:xfrm>
            <a:off x="2590920" y="396252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RIMA KASIH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577880" y="2743200"/>
            <a:ext cx="74898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engontrol jarak Jauh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ngumpulkan data-data di sisi proses ( ON Sit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ngirimkan data ke Master (Pusat Pengatur / CC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ngolah data untuk berbagai aplikasi pengaturan da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anajemen (kelistrika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ndistribusikan informasi ke komputer / master lain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elalui Wide Area Netwo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109520" y="1066680"/>
            <a:ext cx="7425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5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rebuchet MS"/>
              </a:rPr>
              <a:t>SCADA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</a:rPr>
              <a:t>S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UPERVISORY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ONTROL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ND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ATA </a:t>
            </a:r>
            <a:r>
              <a:rPr b="0" lang="en-US" sz="2400" spc="-1" strike="noStrike">
                <a:solidFill>
                  <a:srgbClr val="ff3300"/>
                </a:solidFill>
                <a:latin typeface="Trebuchet MS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CQUSI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090440" y="2362320"/>
            <a:ext cx="53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Pengertian Umum Sistem Scad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219320" y="1638360"/>
            <a:ext cx="670536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5120" indent="-34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AGIAN UTAMA DARI SCAD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PLC  PROGRAMABLE LOGIC C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-  COMMUNICATION PROTOCOL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-  MASTER STATION / KOMPU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65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1447920" y="4343400"/>
            <a:ext cx="6858000" cy="609480"/>
            <a:chOff x="1447920" y="4343400"/>
            <a:chExt cx="6858000" cy="609480"/>
          </a:xfrm>
        </p:grpSpPr>
        <p:sp>
          <p:nvSpPr>
            <p:cNvPr id="71" name="Rectangle 4"/>
            <p:cNvSpPr/>
            <p:nvPr/>
          </p:nvSpPr>
          <p:spPr>
            <a:xfrm>
              <a:off x="1447920" y="4343400"/>
              <a:ext cx="15242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rebuchet MS"/>
                </a:rPr>
                <a:t>PC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6782040" y="4343400"/>
              <a:ext cx="15238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rebuchet MS"/>
                </a:rPr>
                <a:t>PLC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4115160" y="4343400"/>
              <a:ext cx="15238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rebuchet MS"/>
                </a:rPr>
                <a:t>PROTOCOL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2972160" y="4647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5639040" y="46479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6" name="Rectangle 9"/>
          <p:cNvSpPr/>
          <p:nvPr/>
        </p:nvSpPr>
        <p:spPr>
          <a:xfrm>
            <a:off x="9144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3333cc"/>
                </a:solidFill>
                <a:latin typeface="Monotype Corsiva"/>
                <a:ea typeface="Times New Roman"/>
              </a:rPr>
              <a:t>Dasar Sistem Scada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66"/>
          <p:cNvGrpSpPr/>
          <p:nvPr/>
        </p:nvGrpSpPr>
        <p:grpSpPr>
          <a:xfrm>
            <a:off x="1373400" y="1447920"/>
            <a:ext cx="7004160" cy="4784760"/>
            <a:chOff x="1373400" y="1447920"/>
            <a:chExt cx="7004160" cy="4784760"/>
          </a:xfrm>
        </p:grpSpPr>
        <p:sp>
          <p:nvSpPr>
            <p:cNvPr id="78" name="Text Box 67"/>
            <p:cNvSpPr/>
            <p:nvPr/>
          </p:nvSpPr>
          <p:spPr>
            <a:xfrm>
              <a:off x="1373400" y="5268960"/>
              <a:ext cx="178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ACK UP COMPUTER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79" name="Object 3" descr=""/>
            <p:cNvPicPr/>
            <p:nvPr/>
          </p:nvPicPr>
          <p:blipFill>
            <a:blip r:embed="rId1"/>
            <a:stretch/>
          </p:blipFill>
          <p:spPr>
            <a:xfrm>
              <a:off x="1955880" y="1627200"/>
              <a:ext cx="40608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4" descr=""/>
            <p:cNvPicPr/>
            <p:nvPr/>
          </p:nvPicPr>
          <p:blipFill>
            <a:blip r:embed="rId2"/>
            <a:stretch/>
          </p:blipFill>
          <p:spPr>
            <a:xfrm>
              <a:off x="1912680" y="2233800"/>
              <a:ext cx="449280" cy="4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70"/>
            <p:cNvSpPr/>
            <p:nvPr/>
          </p:nvSpPr>
          <p:spPr>
            <a:xfrm>
              <a:off x="1746000" y="2691000"/>
              <a:ext cx="10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PERATOR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" name="Text Box 71"/>
            <p:cNvSpPr/>
            <p:nvPr/>
          </p:nvSpPr>
          <p:spPr>
            <a:xfrm>
              <a:off x="1467000" y="4022640"/>
              <a:ext cx="152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IN COMPUTER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Line 72"/>
            <p:cNvSpPr/>
            <p:nvPr/>
          </p:nvSpPr>
          <p:spPr>
            <a:xfrm>
              <a:off x="2376360" y="1893960"/>
              <a:ext cx="70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Line 73"/>
            <p:cNvSpPr/>
            <p:nvPr/>
          </p:nvSpPr>
          <p:spPr>
            <a:xfrm>
              <a:off x="2376360" y="2425680"/>
              <a:ext cx="704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Line 74"/>
            <p:cNvSpPr/>
            <p:nvPr/>
          </p:nvSpPr>
          <p:spPr>
            <a:xfrm>
              <a:off x="2595600" y="4865760"/>
              <a:ext cx="47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86" name="Object 5" descr=""/>
            <p:cNvPicPr/>
            <p:nvPr/>
          </p:nvPicPr>
          <p:blipFill>
            <a:blip r:embed="rId3"/>
            <a:stretch/>
          </p:blipFill>
          <p:spPr>
            <a:xfrm>
              <a:off x="3386160" y="2023920"/>
              <a:ext cx="53172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Object 6" descr=""/>
            <p:cNvPicPr/>
            <p:nvPr/>
          </p:nvPicPr>
          <p:blipFill>
            <a:blip r:embed="rId4"/>
            <a:stretch/>
          </p:blipFill>
          <p:spPr>
            <a:xfrm>
              <a:off x="3365280" y="3100320"/>
              <a:ext cx="53208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Line 77"/>
            <p:cNvSpPr/>
            <p:nvPr/>
          </p:nvSpPr>
          <p:spPr>
            <a:xfrm>
              <a:off x="3079800" y="22338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" name="Line 78"/>
            <p:cNvSpPr/>
            <p:nvPr/>
          </p:nvSpPr>
          <p:spPr>
            <a:xfrm>
              <a:off x="3100320" y="3278160"/>
              <a:ext cx="363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Text Box 79"/>
            <p:cNvSpPr/>
            <p:nvPr/>
          </p:nvSpPr>
          <p:spPr>
            <a:xfrm>
              <a:off x="3079080" y="3684600"/>
              <a:ext cx="95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FRONT END 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OMPUTER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" name="Rectangle 80"/>
            <p:cNvSpPr/>
            <p:nvPr/>
          </p:nvSpPr>
          <p:spPr>
            <a:xfrm>
              <a:off x="3547800" y="2735280"/>
              <a:ext cx="157320" cy="14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" name="Line 81"/>
            <p:cNvSpPr/>
            <p:nvPr/>
          </p:nvSpPr>
          <p:spPr>
            <a:xfrm>
              <a:off x="3620880" y="254304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" name="Line 82"/>
            <p:cNvSpPr/>
            <p:nvPr/>
          </p:nvSpPr>
          <p:spPr>
            <a:xfrm>
              <a:off x="3632040" y="289404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" name="Line 83"/>
            <p:cNvSpPr/>
            <p:nvPr/>
          </p:nvSpPr>
          <p:spPr>
            <a:xfrm>
              <a:off x="3713040" y="2801880"/>
              <a:ext cx="47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Oval 84">
              <a:hlinkClick r:id="rId5" action="ppaction://hlinksldjump"/>
            </p:cNvPr>
            <p:cNvSpPr/>
            <p:nvPr/>
          </p:nvSpPr>
          <p:spPr>
            <a:xfrm>
              <a:off x="4187880" y="2255760"/>
              <a:ext cx="1019160" cy="9684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96" name="Object 7" descr=""/>
            <p:cNvPicPr/>
            <p:nvPr/>
          </p:nvPicPr>
          <p:blipFill>
            <a:blip r:embed="rId6"/>
            <a:stretch/>
          </p:blipFill>
          <p:spPr>
            <a:xfrm>
              <a:off x="5881680" y="2254320"/>
              <a:ext cx="5760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6"/>
            <p:cNvSpPr/>
            <p:nvPr/>
          </p:nvSpPr>
          <p:spPr>
            <a:xfrm>
              <a:off x="4110120" y="2451240"/>
              <a:ext cx="116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STEM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ELKOM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Rectangle 87"/>
            <p:cNvSpPr/>
            <p:nvPr/>
          </p:nvSpPr>
          <p:spPr>
            <a:xfrm>
              <a:off x="5487840" y="2817720"/>
              <a:ext cx="157320" cy="14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" name="Rectangle 88"/>
            <p:cNvSpPr/>
            <p:nvPr/>
          </p:nvSpPr>
          <p:spPr>
            <a:xfrm>
              <a:off x="5478480" y="2514600"/>
              <a:ext cx="156960" cy="14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" name="Line 89"/>
            <p:cNvSpPr/>
            <p:nvPr/>
          </p:nvSpPr>
          <p:spPr>
            <a:xfrm>
              <a:off x="5222880" y="2589120"/>
              <a:ext cx="253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" name="Line 90"/>
            <p:cNvSpPr/>
            <p:nvPr/>
          </p:nvSpPr>
          <p:spPr>
            <a:xfrm>
              <a:off x="5227560" y="2894040"/>
              <a:ext cx="26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Line 91"/>
            <p:cNvSpPr/>
            <p:nvPr/>
          </p:nvSpPr>
          <p:spPr>
            <a:xfrm>
              <a:off x="5634000" y="2585880"/>
              <a:ext cx="2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" name="Line 92"/>
            <p:cNvSpPr/>
            <p:nvPr/>
          </p:nvSpPr>
          <p:spPr>
            <a:xfrm>
              <a:off x="5645160" y="2894040"/>
              <a:ext cx="222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" name="Oval 93"/>
            <p:cNvSpPr/>
            <p:nvPr/>
          </p:nvSpPr>
          <p:spPr>
            <a:xfrm>
              <a:off x="7084800" y="2009880"/>
              <a:ext cx="1281240" cy="14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" name="Line 94"/>
            <p:cNvSpPr/>
            <p:nvPr/>
          </p:nvSpPr>
          <p:spPr>
            <a:xfrm>
              <a:off x="6459480" y="2448000"/>
              <a:ext cx="66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Line 95"/>
            <p:cNvSpPr/>
            <p:nvPr/>
          </p:nvSpPr>
          <p:spPr>
            <a:xfrm>
              <a:off x="6459480" y="2585880"/>
              <a:ext cx="64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Line 96"/>
            <p:cNvSpPr/>
            <p:nvPr/>
          </p:nvSpPr>
          <p:spPr>
            <a:xfrm>
              <a:off x="6459480" y="2724120"/>
              <a:ext cx="63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Line 97"/>
            <p:cNvSpPr/>
            <p:nvPr/>
          </p:nvSpPr>
          <p:spPr>
            <a:xfrm>
              <a:off x="6468840" y="286380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Line 98"/>
            <p:cNvSpPr/>
            <p:nvPr/>
          </p:nvSpPr>
          <p:spPr>
            <a:xfrm>
              <a:off x="6449760" y="2990880"/>
              <a:ext cx="64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Text Box 99"/>
            <p:cNvSpPr/>
            <p:nvPr/>
          </p:nvSpPr>
          <p:spPr>
            <a:xfrm>
              <a:off x="7081200" y="2309760"/>
              <a:ext cx="1296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ANGKAIA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OSES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ARDU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I GH GD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Text Box 100"/>
            <p:cNvSpPr/>
            <p:nvPr/>
          </p:nvSpPr>
          <p:spPr>
            <a:xfrm>
              <a:off x="5955480" y="3373560"/>
              <a:ext cx="64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 T U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112" name="Object 8" descr=""/>
            <p:cNvPicPr/>
            <p:nvPr/>
          </p:nvPicPr>
          <p:blipFill>
            <a:blip r:embed="rId7"/>
            <a:stretch/>
          </p:blipFill>
          <p:spPr>
            <a:xfrm>
              <a:off x="1549440" y="4460760"/>
              <a:ext cx="1038240" cy="7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Object 9" descr=""/>
            <p:cNvPicPr/>
            <p:nvPr/>
          </p:nvPicPr>
          <p:blipFill>
            <a:blip r:embed="rId8"/>
            <a:stretch/>
          </p:blipFill>
          <p:spPr>
            <a:xfrm>
              <a:off x="3519360" y="4530600"/>
              <a:ext cx="57780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Line 103"/>
            <p:cNvSpPr/>
            <p:nvPr/>
          </p:nvSpPr>
          <p:spPr>
            <a:xfrm>
              <a:off x="3082680" y="5037120"/>
              <a:ext cx="47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115" name="Object 10" descr=""/>
            <p:cNvPicPr/>
            <p:nvPr/>
          </p:nvPicPr>
          <p:blipFill>
            <a:blip r:embed="rId9"/>
            <a:stretch/>
          </p:blipFill>
          <p:spPr>
            <a:xfrm>
              <a:off x="4487760" y="4388040"/>
              <a:ext cx="6080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Object 11" descr=""/>
            <p:cNvPicPr/>
            <p:nvPr/>
          </p:nvPicPr>
          <p:blipFill>
            <a:blip r:embed="rId10"/>
            <a:stretch/>
          </p:blipFill>
          <p:spPr>
            <a:xfrm>
              <a:off x="4535280" y="5145120"/>
              <a:ext cx="609840" cy="6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Line 106"/>
            <p:cNvSpPr/>
            <p:nvPr/>
          </p:nvSpPr>
          <p:spPr>
            <a:xfrm>
              <a:off x="4024080" y="4770360"/>
              <a:ext cx="446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Line 107"/>
            <p:cNvSpPr/>
            <p:nvPr/>
          </p:nvSpPr>
          <p:spPr>
            <a:xfrm>
              <a:off x="4024080" y="5302440"/>
              <a:ext cx="50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Text Box 108"/>
            <p:cNvSpPr/>
            <p:nvPr/>
          </p:nvSpPr>
          <p:spPr>
            <a:xfrm>
              <a:off x="3459240" y="561960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Text Box 109"/>
            <p:cNvSpPr/>
            <p:nvPr/>
          </p:nvSpPr>
          <p:spPr>
            <a:xfrm>
              <a:off x="5110560" y="4641840"/>
              <a:ext cx="141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VENT LOGGER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Text Box 110"/>
            <p:cNvSpPr/>
            <p:nvPr/>
          </p:nvSpPr>
          <p:spPr>
            <a:xfrm>
              <a:off x="5129280" y="539604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ARD COPY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Line 111"/>
            <p:cNvSpPr/>
            <p:nvPr/>
          </p:nvSpPr>
          <p:spPr>
            <a:xfrm>
              <a:off x="3066840" y="1447920"/>
              <a:ext cx="0" cy="444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Text Box 112"/>
            <p:cNvSpPr/>
            <p:nvPr/>
          </p:nvSpPr>
          <p:spPr>
            <a:xfrm>
              <a:off x="6629400" y="3976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ff"/>
                  </a:solidFill>
                  <a:latin typeface="Times New Roman"/>
                </a:rPr>
                <a:t>PLC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Text Box 113"/>
            <p:cNvSpPr/>
            <p:nvPr/>
          </p:nvSpPr>
          <p:spPr>
            <a:xfrm>
              <a:off x="4190760" y="355608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Times New Roman"/>
                </a:rPr>
                <a:t>PROTOCOL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Text Box 114"/>
            <p:cNvSpPr/>
            <p:nvPr/>
          </p:nvSpPr>
          <p:spPr>
            <a:xfrm>
              <a:off x="2436480" y="5956200"/>
              <a:ext cx="155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ASTER STATIO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Text Box 115"/>
          <p:cNvSpPr/>
          <p:nvPr/>
        </p:nvSpPr>
        <p:spPr>
          <a:xfrm>
            <a:off x="390960" y="870120"/>
            <a:ext cx="41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Monotype Corsiva"/>
              </a:rPr>
              <a:t>Peralatan Sistem Scada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28"/>
          <p:cNvSpPr/>
          <p:nvPr/>
        </p:nvSpPr>
        <p:spPr>
          <a:xfrm>
            <a:off x="838080" y="990720"/>
            <a:ext cx="8088480" cy="73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ADA (Hardware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8" name="Group 1029"/>
          <p:cNvGrpSpPr/>
          <p:nvPr/>
        </p:nvGrpSpPr>
        <p:grpSpPr>
          <a:xfrm>
            <a:off x="685800" y="3578400"/>
            <a:ext cx="4724280" cy="765000"/>
            <a:chOff x="685800" y="3578400"/>
            <a:chExt cx="4724280" cy="765000"/>
          </a:xfrm>
        </p:grpSpPr>
        <p:sp>
          <p:nvSpPr>
            <p:cNvPr id="129" name="Line 1030"/>
            <p:cNvSpPr/>
            <p:nvPr/>
          </p:nvSpPr>
          <p:spPr>
            <a:xfrm>
              <a:off x="685800" y="3962520"/>
              <a:ext cx="4724280" cy="0"/>
            </a:xfrm>
            <a:prstGeom prst="line">
              <a:avLst/>
            </a:prstGeom>
            <a:ln w="2556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" name="Line 1031"/>
            <p:cNvSpPr/>
            <p:nvPr/>
          </p:nvSpPr>
          <p:spPr>
            <a:xfrm>
              <a:off x="3216240" y="3583080"/>
              <a:ext cx="0" cy="365040"/>
            </a:xfrm>
            <a:prstGeom prst="line">
              <a:avLst/>
            </a:prstGeom>
            <a:ln w="2556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" name="Line 1032"/>
            <p:cNvSpPr/>
            <p:nvPr/>
          </p:nvSpPr>
          <p:spPr>
            <a:xfrm>
              <a:off x="1242720" y="3578400"/>
              <a:ext cx="0" cy="365040"/>
            </a:xfrm>
            <a:prstGeom prst="line">
              <a:avLst/>
            </a:prstGeom>
            <a:ln w="2556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" name="Oval 1033"/>
            <p:cNvSpPr/>
            <p:nvPr/>
          </p:nvSpPr>
          <p:spPr>
            <a:xfrm>
              <a:off x="3184560" y="3924360"/>
              <a:ext cx="63360" cy="63720"/>
            </a:xfrm>
            <a:prstGeom prst="ellipse">
              <a:avLst/>
            </a:prstGeom>
            <a:solidFill>
              <a:srgbClr val="fde3ba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" name="Oval 1034"/>
            <p:cNvSpPr/>
            <p:nvPr/>
          </p:nvSpPr>
          <p:spPr>
            <a:xfrm>
              <a:off x="4816440" y="3924360"/>
              <a:ext cx="63360" cy="63720"/>
            </a:xfrm>
            <a:prstGeom prst="ellipse">
              <a:avLst/>
            </a:prstGeom>
            <a:solidFill>
              <a:srgbClr val="fde3ba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" name="Oval 1035"/>
            <p:cNvSpPr/>
            <p:nvPr/>
          </p:nvSpPr>
          <p:spPr>
            <a:xfrm>
              <a:off x="1209600" y="3919680"/>
              <a:ext cx="63360" cy="63360"/>
            </a:xfrm>
            <a:prstGeom prst="ellipse">
              <a:avLst/>
            </a:prstGeom>
            <a:solidFill>
              <a:srgbClr val="fde3ba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" name="Line 1036"/>
            <p:cNvSpPr/>
            <p:nvPr/>
          </p:nvSpPr>
          <p:spPr>
            <a:xfrm>
              <a:off x="4833720" y="3978360"/>
              <a:ext cx="0" cy="365040"/>
            </a:xfrm>
            <a:prstGeom prst="line">
              <a:avLst/>
            </a:prstGeom>
            <a:ln w="2556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36" name="Group 1057"/>
          <p:cNvGrpSpPr/>
          <p:nvPr/>
        </p:nvGrpSpPr>
        <p:grpSpPr>
          <a:xfrm>
            <a:off x="930240" y="1981080"/>
            <a:ext cx="8366040" cy="4035960"/>
            <a:chOff x="930240" y="1981080"/>
            <a:chExt cx="8366040" cy="4035960"/>
          </a:xfrm>
        </p:grpSpPr>
        <p:sp>
          <p:nvSpPr>
            <p:cNvPr id="137" name="Rectangle 1037"/>
            <p:cNvSpPr/>
            <p:nvPr/>
          </p:nvSpPr>
          <p:spPr>
            <a:xfrm>
              <a:off x="4419360" y="1981080"/>
              <a:ext cx="48769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eralatan di sisi Master :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mputer Server + Database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orkstation / Console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nt End Processor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8" name="Rectangle 1038"/>
            <p:cNvSpPr/>
            <p:nvPr/>
          </p:nvSpPr>
          <p:spPr>
            <a:xfrm>
              <a:off x="990360" y="4038480"/>
              <a:ext cx="1127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Server + Database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9" name="Rectangle 1039"/>
            <p:cNvSpPr/>
            <p:nvPr/>
          </p:nvSpPr>
          <p:spPr>
            <a:xfrm>
              <a:off x="2759040" y="4014720"/>
              <a:ext cx="14475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Workstation / Console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aphicFrame>
          <p:nvGraphicFramePr>
            <p:cNvPr id="140" name="Object 1716"/>
            <p:cNvGraphicFramePr/>
            <p:nvPr/>
          </p:nvGraphicFramePr>
          <p:xfrm>
            <a:off x="2835000" y="2438280"/>
            <a:ext cx="1355760" cy="1305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17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35000" y="2438280"/>
                      <a:ext cx="1355760" cy="13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2" name="Picture 1041" descr="gardu"/>
            <p:cNvPicPr/>
            <p:nvPr/>
          </p:nvPicPr>
          <p:blipFill>
            <a:blip r:embed="rId3"/>
            <a:stretch/>
          </p:blipFill>
          <p:spPr>
            <a:xfrm>
              <a:off x="2971800" y="2514600"/>
              <a:ext cx="812520" cy="62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Group 1042"/>
            <p:cNvGrpSpPr/>
            <p:nvPr/>
          </p:nvGrpSpPr>
          <p:grpSpPr>
            <a:xfrm>
              <a:off x="4952880" y="4813200"/>
              <a:ext cx="3504960" cy="572760"/>
              <a:chOff x="4952880" y="4813200"/>
              <a:chExt cx="3504960" cy="572760"/>
            </a:xfrm>
          </p:grpSpPr>
          <p:sp>
            <p:nvSpPr>
              <p:cNvPr id="144" name="Line 1043"/>
              <p:cNvSpPr/>
              <p:nvPr/>
            </p:nvSpPr>
            <p:spPr>
              <a:xfrm>
                <a:off x="4952880" y="5028840"/>
                <a:ext cx="12952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5" name="Line 1044"/>
              <p:cNvSpPr/>
              <p:nvPr/>
            </p:nvSpPr>
            <p:spPr>
              <a:xfrm flipV="1">
                <a:off x="8443800" y="4813200"/>
                <a:ext cx="0" cy="358560"/>
              </a:xfrm>
              <a:prstGeom prst="line">
                <a:avLst/>
              </a:prstGeom>
              <a:ln w="2556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6" name="Line 1045"/>
              <p:cNvSpPr/>
              <p:nvPr/>
            </p:nvSpPr>
            <p:spPr>
              <a:xfrm flipV="1">
                <a:off x="7391160" y="4813200"/>
                <a:ext cx="0" cy="358560"/>
              </a:xfrm>
              <a:prstGeom prst="line">
                <a:avLst/>
              </a:prstGeom>
              <a:ln w="2556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7" name="Line 1046"/>
              <p:cNvSpPr/>
              <p:nvPr/>
            </p:nvSpPr>
            <p:spPr>
              <a:xfrm>
                <a:off x="5257440" y="4813200"/>
                <a:ext cx="3200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8" name="Line 1047"/>
              <p:cNvSpPr/>
              <p:nvPr/>
            </p:nvSpPr>
            <p:spPr>
              <a:xfrm flipV="1">
                <a:off x="6233760" y="5027040"/>
                <a:ext cx="0" cy="358920"/>
              </a:xfrm>
              <a:prstGeom prst="line">
                <a:avLst/>
              </a:prstGeom>
              <a:ln w="2556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aphicFrame>
          <p:nvGraphicFramePr>
            <p:cNvPr id="149" name="Object 1717"/>
            <p:cNvGraphicFramePr/>
            <p:nvPr/>
          </p:nvGraphicFramePr>
          <p:xfrm>
            <a:off x="5790960" y="5257800"/>
            <a:ext cx="838440" cy="457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" name="Object 171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90960" y="5257800"/>
                      <a:ext cx="8384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1049"/>
            <p:cNvSpPr/>
            <p:nvPr/>
          </p:nvSpPr>
          <p:spPr>
            <a:xfrm>
              <a:off x="4419360" y="5562720"/>
              <a:ext cx="1143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Front End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2" name="Rectangle 1050"/>
            <p:cNvSpPr/>
            <p:nvPr/>
          </p:nvSpPr>
          <p:spPr>
            <a:xfrm>
              <a:off x="7162560" y="5486400"/>
              <a:ext cx="685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TU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3" name="Rectangle 1051"/>
            <p:cNvSpPr/>
            <p:nvPr/>
          </p:nvSpPr>
          <p:spPr>
            <a:xfrm>
              <a:off x="8153280" y="5486400"/>
              <a:ext cx="685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TU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4" name="Rectangle 1052"/>
            <p:cNvSpPr/>
            <p:nvPr/>
          </p:nvSpPr>
          <p:spPr>
            <a:xfrm>
              <a:off x="5943600" y="5715000"/>
              <a:ext cx="685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RTU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aphicFrame>
          <p:nvGraphicFramePr>
            <p:cNvPr id="155" name="Object 1718"/>
            <p:cNvGraphicFramePr/>
            <p:nvPr/>
          </p:nvGraphicFramePr>
          <p:xfrm>
            <a:off x="6933960" y="5029200"/>
            <a:ext cx="838440" cy="4572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Object 171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933960" y="5029200"/>
                      <a:ext cx="8384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Object 1719"/>
            <p:cNvGraphicFramePr/>
            <p:nvPr/>
          </p:nvGraphicFramePr>
          <p:xfrm>
            <a:off x="8001000" y="5029200"/>
            <a:ext cx="838080" cy="457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8" name="Object 171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001000" y="5029200"/>
                      <a:ext cx="8380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1720"/>
            <p:cNvGraphicFramePr/>
            <p:nvPr/>
          </p:nvGraphicFramePr>
          <p:xfrm>
            <a:off x="4572000" y="4267080"/>
            <a:ext cx="761760" cy="1224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0" name="Object 172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572000" y="4267080"/>
                      <a:ext cx="761760" cy="12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1721"/>
            <p:cNvGraphicFramePr/>
            <p:nvPr/>
          </p:nvGraphicFramePr>
          <p:xfrm>
            <a:off x="930240" y="2033640"/>
            <a:ext cx="1143000" cy="16812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62" name="Object 1721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930240" y="2033640"/>
                      <a:ext cx="114300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Rectangle 1058"/>
          <p:cNvSpPr/>
          <p:nvPr/>
        </p:nvSpPr>
        <p:spPr>
          <a:xfrm>
            <a:off x="762120" y="5105520"/>
            <a:ext cx="472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eralatan di sisi Proses :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TU  (remote terminal unit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26"/>
          <p:cNvSpPr/>
          <p:nvPr/>
        </p:nvSpPr>
        <p:spPr>
          <a:xfrm>
            <a:off x="838080" y="990720"/>
            <a:ext cx="8088480" cy="73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Jenis Data dari Pros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Rectangle 1027"/>
          <p:cNvSpPr/>
          <p:nvPr/>
        </p:nvSpPr>
        <p:spPr>
          <a:xfrm>
            <a:off x="838080" y="1905120"/>
            <a:ext cx="859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gital Inp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dikasi Open / Close (CB,INDIKASI RELE,DLL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a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p Changer Posi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gital Outp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mote Control Open / Close (CIRCUIT BREAKER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ET REL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ET HORN / ALA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alog Inp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ngukuran besaran listrik (MW, Mvar, Ampere, KV, Freq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28"/>
          <p:cNvSpPr/>
          <p:nvPr/>
        </p:nvSpPr>
        <p:spPr>
          <a:xfrm>
            <a:off x="1143000" y="160020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96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3 Jenis Tele Fungsi Scad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9600" indent="-457200">
              <a:lnSpc>
                <a:spcPct val="150000"/>
              </a:lnSpc>
              <a:spcBef>
                <a:spcPts val="451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gsi Tele K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45720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Membuka dan menutup Circuit Breaker</a:t>
            </a:r>
            <a:r>
              <a:rPr b="0" lang="en-US" sz="16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45720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Reset Rele ( Indikasi Rele seperti indikasi Over Current atau Earth Fault) jika terjadi ganggua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45720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Kontrol  Tap Changer Trafo ( Menaikan atau menurunkan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1036800" indent="-457200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Kontrol On Off  Recloser digunakan pada gardu induk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Text Box 1029"/>
          <p:cNvSpPr/>
          <p:nvPr/>
        </p:nvSpPr>
        <p:spPr>
          <a:xfrm>
            <a:off x="990720" y="9460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Monotype Corsiva"/>
              </a:rPr>
              <a:t>Tele Information Da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66680" y="9144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9600" indent="-457200">
              <a:lnSpc>
                <a:spcPct val="150000"/>
              </a:lnSpc>
              <a:spcBef>
                <a:spcPts val="451"/>
              </a:spcBef>
              <a:buClr>
                <a:srgbClr val="3333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gsi Tele Signa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752480" y="1523880"/>
            <a:ext cx="44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Tele Signal Double (TSD) / Double Status</a:t>
            </a:r>
            <a:r>
              <a:rPr b="0" lang="en-GB" sz="16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57400" y="1905120"/>
            <a:ext cx="68580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pen Close Circuit Break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4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ap Changer Posi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4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arthing Swicth Open Clos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4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isconcting swicth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752480" y="3733920"/>
            <a:ext cx="44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Tele Signal Single  (TSS) / Single Status</a:t>
            </a:r>
            <a:r>
              <a:rPr b="0" lang="en-GB" sz="16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057400" y="4114800"/>
            <a:ext cx="3352680" cy="26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okal Remo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C (Over Current) statu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F statu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FD(Homofolar Fault Detecto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mmunication link Fai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5638680" y="4114800"/>
            <a:ext cx="29718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asa Gangguan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uto Reclose Of On status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C Fault /  DC Faul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6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TU Fail/Inacce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2:46:20Z</dcterms:created>
  <dc:creator>Suparyat Fauzi</dc:creator>
  <dc:description/>
  <dc:language>en-US</dc:language>
  <cp:lastModifiedBy>Ruly C</cp:lastModifiedBy>
  <dcterms:modified xsi:type="dcterms:W3CDTF">2009-02-02T03:06:04Z</dcterms:modified>
  <cp:revision>519</cp:revision>
  <dc:subject/>
  <dc:title>PowerPoint Presentation</dc:title>
</cp:coreProperties>
</file>