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F876-F8FE-4612-BCCB-D8BF6923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CFEC-C281-417F-9869-84C48DAA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C74C-DDCB-4FAF-B96A-11668482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DE70-A73E-42D0-AEE4-A5312B8F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26BA-B2D0-447C-8BF1-E4105163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107-8DA5-4BF6-851E-B7A06ADF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3FC-D28F-4733-9D20-D1389D38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AC90-FD97-412B-8DCB-BBEDD8EE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CA0B-91F0-41E8-AB58-4587CDFC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3D6-40C6-4EA6-8CFD-D8DA2A33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83F1-CE38-43E6-B89B-EF642270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55BC-70EF-4813-9A80-3E6CD62C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43E9F-7C87-4D9D-B556-4F26FA331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43DF7-96A5-40A0-B0DB-457BB3AD9DA4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5.xml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0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05:54:16Z</dcterms:created>
  <dc:creator>최봉수</dc:creator>
  <dc:description/>
  <dc:language>en-US</dc:language>
  <cp:lastModifiedBy>군만두 맛있다</cp:lastModifiedBy>
  <dcterms:modified xsi:type="dcterms:W3CDTF">2023-07-12T05:49:55Z</dcterms:modified>
  <cp:revision>2</cp:revision>
  <dc:subject/>
  <dc:title>슬라이드 1</dc:title>
</cp:coreProperties>
</file>