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986-5444-469C-927E-C3E7F256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DD2-E872-40B5-8D44-6BD8EE70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891-8FF5-4BD9-AF9B-5F3CA1CC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1E8-9972-48DE-A33A-0A354895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E3A-FEB7-4755-A241-C29C5705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0A5-9501-4C73-9E2F-743C5D19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0D0-E2EB-42CB-BE71-E5A23094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A40-F9A6-462F-A94D-453B0C91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93F-FADA-4F88-AED4-D1588BF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ABE-8239-4E34-84E0-05A15BC7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997-7023-4006-8DF5-9D439C70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269-655B-44BD-82D3-B7135E82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71469-A335-4396-83CA-644A362A3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06953-E5B2-499A-A9A0-E81383DD49A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5:54:16Z</dcterms:created>
  <dc:creator>최봉수</dc:creator>
  <dc:description/>
  <dc:language>en-US</dc:language>
  <cp:lastModifiedBy>군만두 맛있다</cp:lastModifiedBy>
  <dcterms:modified xsi:type="dcterms:W3CDTF">2023-07-12T05:49:55Z</dcterms:modified>
  <cp:revision>2</cp:revision>
  <dc:subject/>
  <dc:title>슬라이드 1</dc:title>
</cp:coreProperties>
</file>