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rieu_les_%20moulins_de_%20mon_coeur.wav" ContentType="audio/x-wav"/>
  <Override PartName="/ppt/media/image18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6.jpeg" ContentType="image/jpeg"/>
  <Override PartName="/ppt/media/image27.jpeg" ContentType="image/jpeg"/>
  <Override PartName="/ppt/media/image33.gif" ContentType="image/gif"/>
  <Override PartName="/ppt/media/image34.gif" ContentType="image/gif"/>
  <Override PartName="/ppt/media/image5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23.jpeg" ContentType="image/jpeg"/>
  <Override PartName="/ppt/media/image19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2059E-FBD4-455E-94D9-016395597B2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CF615-0481-4CDE-815D-2BA3F2FF339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Ik denk niet</a:t>
            </a: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 dat ik iets belangrijkers gedaan heb in mijn le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44E5-2183-463B-ACEB-163DCC816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AEB3-02AB-42DE-93D8-40DBC47F5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EF83-B4D8-4736-9391-043083181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2D8F-CC0A-4626-89A6-BB46D00B2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1052-D3D0-4FF3-AFB1-ADA3C09A0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C73D-A240-4B82-B1CC-7B31EA207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D797-1FB4-4EBF-A45A-1FA8908D2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98C8-9176-41BC-A90A-E5FBE5338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BDEA-7AE4-4091-AC20-CCA737AFD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2926-2B76-4D63-86BA-A24ED8D1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091B-CC7F-46D2-8889-6A092C5E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3277-A57B-4CC8-9730-F1EB34C5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AF362-2B5A-4ABE-ABD8-CBFB5CFD3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rieu_les_%20moulins_de_%20mon_coeur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3.gif"/><Relationship Id="rId4" Type="http://schemas.openxmlformats.org/officeDocument/2006/relationships/image" Target="../media/image33.gif"/><Relationship Id="rId5" Type="http://schemas.openxmlformats.org/officeDocument/2006/relationships/image" Target="../media/image34.gif"/><Relationship Id="rId6" Type="http://schemas.openxmlformats.org/officeDocument/2006/relationships/image" Target="../media/image34.gi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Image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2406240" y="259920"/>
            <a:ext cx="378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DE RIT PER TAX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6159240" y="616572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Klik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Image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4"/>
          <p:cNvSpPr/>
          <p:nvPr/>
        </p:nvSpPr>
        <p:spPr>
          <a:xfrm>
            <a:off x="179280" y="111096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Er was geen uurwerk te bespeuren evenmin decoraties aan mur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In de hoek stond een kartonnen doos vol met foto’s en glazen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Image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4"/>
          <p:cNvSpPr/>
          <p:nvPr/>
        </p:nvSpPr>
        <p:spPr>
          <a:xfrm>
            <a:off x="756000" y="475560"/>
            <a:ext cx="713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Wilt U svp mijn bagage naar de auto brengen’ vroeg 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Ik droeg de koffer naar de wagen en ging terug naar  de oude vrou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6" descr="Image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900000" y="62028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Ze nam mijn arm en we wandelden langzaam naar de au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Ze bleef me bedanken voor mijn vriendelijkhei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6" descr="Blumie-12048252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4"/>
          <p:cNvSpPr/>
          <p:nvPr/>
        </p:nvSpPr>
        <p:spPr>
          <a:xfrm>
            <a:off x="755640" y="140040"/>
            <a:ext cx="7628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fr-CA" sz="2000" spc="-1" strike="noStrike">
                <a:solidFill>
                  <a:srgbClr val="ffffff"/>
                </a:solidFill>
                <a:latin typeface="Arial"/>
              </a:rPr>
              <a:t>Graag gedaan’ zei i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Arial"/>
              </a:rPr>
              <a:t>Ik tracht enkel mijn passagiers te behandelen op de manier waarop ik zou wensen dat ze mijn Moeder zouden behande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timw4mail-11463967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4"/>
          <p:cNvSpPr/>
          <p:nvPr/>
        </p:nvSpPr>
        <p:spPr>
          <a:xfrm>
            <a:off x="2411280" y="5242680"/>
            <a:ext cx="4738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Oh U bent nog een goede man’ zei 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spring_natura-0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4"/>
          <p:cNvSpPr/>
          <p:nvPr/>
        </p:nvSpPr>
        <p:spPr>
          <a:xfrm>
            <a:off x="417600" y="5580720"/>
            <a:ext cx="8726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Arial"/>
              </a:rPr>
              <a:t>Toen we plaats hadden genomen in de taxi, gaf ze mij een adres, daarna vroeg ze of ik kon langs de stad rij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galerie-membre,france-hossegor,img-04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4"/>
          <p:cNvSpPr/>
          <p:nvPr/>
        </p:nvSpPr>
        <p:spPr>
          <a:xfrm>
            <a:off x="2058480" y="432360"/>
            <a:ext cx="534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Ik antwoordde dat dit niet de kortste weg wa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Imagec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4"/>
          <p:cNvSpPr/>
          <p:nvPr/>
        </p:nvSpPr>
        <p:spPr>
          <a:xfrm>
            <a:off x="1619280" y="268200"/>
            <a:ext cx="6234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Oh dat stoort me niet’ zei 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Ik ben niet gehaa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Ik ben op weg naar het rusthuis’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Image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4"/>
          <p:cNvSpPr/>
          <p:nvPr/>
        </p:nvSpPr>
        <p:spPr>
          <a:xfrm>
            <a:off x="826920" y="136440"/>
            <a:ext cx="7040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Arial"/>
              </a:rPr>
              <a:t>Ik keek in de achteruitkijkspieg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Arial"/>
              </a:rPr>
              <a:t>Haar ogen stonden vol tran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Arial"/>
              </a:rPr>
              <a:t>Er rest mij geen familie ging ze d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Arial"/>
              </a:rPr>
              <a:t>en de dokter zegt dat ik niet lang meer te leven h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Imagem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4"/>
          <p:cNvSpPr/>
          <p:nvPr/>
        </p:nvSpPr>
        <p:spPr>
          <a:xfrm>
            <a:off x="6084720" y="3426120"/>
            <a:ext cx="25545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Ik heb stilltjes de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afgezet en naar h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geluiste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« Welke weg wil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dat ik neem » vroeg ik.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Imagbe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4"/>
          <p:cNvSpPr/>
          <p:nvPr/>
        </p:nvSpPr>
        <p:spPr>
          <a:xfrm>
            <a:off x="755640" y="201960"/>
            <a:ext cx="7561440" cy="31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Arial"/>
              </a:rPr>
              <a:t>20 jaar geleden reed ik met een taxi om mijn brood te verdien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Arial"/>
              </a:rPr>
              <a:t>Toen ik  laat in de middag bij een huisje aankwam.die mij had geb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Arial"/>
              </a:rPr>
              <a:t>Het was in duisternis omhuld met uitzondering van een klein lamp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Arial"/>
              </a:rPr>
              <a:t>op het gelijkvlo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Arial"/>
              </a:rPr>
              <a:t>In deze omstandigheden zouden de meesten eens toeteren een minuutje wachten en doorrij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Image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4"/>
          <p:cNvSpPr/>
          <p:nvPr/>
        </p:nvSpPr>
        <p:spPr>
          <a:xfrm>
            <a:off x="611280" y="401760"/>
            <a:ext cx="7489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De volgende uren waren we in de stad aan het rij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Ze toonde me de gebouwen waar ze gewerkt h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We zijn naar de buurt gereden waar ze met haar man gewoond ha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toen ze net getrouwd war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Ze liet me stoppen voor een groot gebouw, waar eens een dansza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geweest was en waar ze als jong meisje had gedan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Image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4"/>
          <p:cNvSpPr/>
          <p:nvPr/>
        </p:nvSpPr>
        <p:spPr>
          <a:xfrm>
            <a:off x="539640" y="686880"/>
            <a:ext cx="822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Soms vroeg ze om langzaam voorbij bepaalde gebouwen te rij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Waarheen ze staarde en deze in zich opnam zonder een woord te zeggen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Image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4"/>
          <p:cNvSpPr/>
          <p:nvPr/>
        </p:nvSpPr>
        <p:spPr>
          <a:xfrm>
            <a:off x="179280" y="53460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Plotseling, na lang rond te hebben gereden zei z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« ik ben moe laat ons nu maar gaan 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Image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4"/>
          <p:cNvSpPr/>
          <p:nvPr/>
        </p:nvSpPr>
        <p:spPr>
          <a:xfrm>
            <a:off x="900000" y="337320"/>
            <a:ext cx="6836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We zijn in stilte tot aan het adres gereden dat op dat briefje sto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Het was een klein gebouw zoals een hersteloo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Twee verpleegsters kwamen toegesneld zodra de taxi stilsto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Ze waren bezorgd en vooruitziend elk gebaar van de vrouw observer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Ze verwachtten ha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Image20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4"/>
          <p:cNvSpPr/>
          <p:nvPr/>
        </p:nvSpPr>
        <p:spPr>
          <a:xfrm>
            <a:off x="371520" y="694080"/>
            <a:ext cx="877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Ik heb de koffer uit de wagen genomen en tot aan de voord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gedra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Vanaf dat moment zat ze in een rolstoel.  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Image21v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4"/>
          <p:cNvSpPr/>
          <p:nvPr/>
        </p:nvSpPr>
        <p:spPr>
          <a:xfrm>
            <a:off x="1582560" y="4793400"/>
            <a:ext cx="6178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« Hoeveel is mijn schuld ? » vroeg 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« Niets » zei 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« Maar u moet toch uw brood verdienen » zei 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Waarop ik antwoordde dat er nog andere passagiers war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Image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4"/>
          <p:cNvSpPr/>
          <p:nvPr/>
        </p:nvSpPr>
        <p:spPr>
          <a:xfrm>
            <a:off x="179280" y="1049400"/>
            <a:ext cx="8612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Zonder nadenken heb ik mij voorover gebogen en ha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in mijn armen genom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Ze zei, U hebt een oude vrouw een moment van vreugde geschon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Bedankt 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Ik gaf haar een hand en liep in het zwakke ochtenl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Achter mij ging een deur dicht.  Het was het geluid van het afslu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van een lev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fond2_1152x864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4"/>
          <p:cNvSpPr/>
          <p:nvPr/>
        </p:nvSpPr>
        <p:spPr>
          <a:xfrm>
            <a:off x="1627560" y="5517720"/>
            <a:ext cx="651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Ik heb een ganse tijd doelloos en in gedachten verzonken r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gereden zonder andere passagiers te nem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Ik kon de rest van de dag nog moeilijk een woord uitbren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Image9"/>
          <p:cNvPicPr/>
          <p:nvPr/>
        </p:nvPicPr>
        <p:blipFill>
          <a:blip r:embed="rId1"/>
          <a:stretch/>
        </p:blipFill>
        <p:spPr>
          <a:xfrm>
            <a:off x="-1600200" y="0"/>
            <a:ext cx="10744200" cy="73152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1"/>
          <p:cNvSpPr/>
          <p:nvPr/>
        </p:nvSpPr>
        <p:spPr>
          <a:xfrm>
            <a:off x="2286000" y="315432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1965240" y="1071720"/>
            <a:ext cx="553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000" spc="-1" strike="noStrike">
                <a:solidFill>
                  <a:srgbClr val="ffffff"/>
                </a:solidFill>
                <a:latin typeface="Arial"/>
              </a:rPr>
              <a:t>ik denk niet dat ik iets belangrijkers gedaan h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000" spc="-1" strike="noStrike">
                <a:solidFill>
                  <a:srgbClr val="ffffff"/>
                </a:solidFill>
                <a:latin typeface="Arial"/>
              </a:rPr>
              <a:t>In mijn le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5089680" y="3084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fond5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4"/>
          <p:cNvSpPr/>
          <p:nvPr/>
        </p:nvSpPr>
        <p:spPr>
          <a:xfrm>
            <a:off x="1403280" y="336240"/>
            <a:ext cx="634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We zijn altijd geneigd te denken dat ons leven rond grote momenten draa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Maar die grote momenten grijpen ons aan zonder dat we het dikwijls beseffen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Image1l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4"/>
          <p:cNvSpPr/>
          <p:nvPr/>
        </p:nvSpPr>
        <p:spPr>
          <a:xfrm>
            <a:off x="179280" y="775080"/>
            <a:ext cx="352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Arial"/>
              </a:rPr>
              <a:t>Maar ik had reeds te veel mensen gezien die beroofd waren van hun mobiliteit en afhingen van een taxi als enige vervoermidd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Imageb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4"/>
          <p:cNvSpPr/>
          <p:nvPr/>
        </p:nvSpPr>
        <p:spPr>
          <a:xfrm>
            <a:off x="395280" y="3696120"/>
            <a:ext cx="298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Mensen herinneren zich misschien niet helemaal, wat je gezegd of gedaan heb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Maar ze herinneren zich altijd welk gevoel je ze gaf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Image6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4"/>
          <p:cNvSpPr/>
          <p:nvPr/>
        </p:nvSpPr>
        <p:spPr>
          <a:xfrm rot="21085200">
            <a:off x="2843280" y="2568600"/>
            <a:ext cx="3095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Het leven is misschien n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altijd het feest waarop we hoopten, maar terwijl we er zijn, laat ons de tijd nemen om goed te dansen.  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kstvak 5"/>
          <p:cNvSpPr/>
          <p:nvPr/>
        </p:nvSpPr>
        <p:spPr>
          <a:xfrm>
            <a:off x="0" y="5084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eel liefs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blipFill rotWithShape="0">
            <a:blip r:embed="rId2">
              <a:alphaModFix amt="48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500" fill="hold"/>
                                        <p:tgtEl>
                                          <p:spTgt spid="1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250" autoRev="1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Image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4"/>
          <p:cNvSpPr/>
          <p:nvPr/>
        </p:nvSpPr>
        <p:spPr>
          <a:xfrm>
            <a:off x="611280" y="5452560"/>
            <a:ext cx="826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Deze passagierster kon iemand zijn die mijn hulp nodig ha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dacht i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Dus ben ik tot aan de voordeur gegaan en gebe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Image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"/>
          <p:cNvSpPr/>
          <p:nvPr/>
        </p:nvSpPr>
        <p:spPr>
          <a:xfrm>
            <a:off x="693360" y="3638160"/>
            <a:ext cx="71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een ogenblikje’ antwoordde een zwakke tedere stem van een zek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leeftij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Image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4"/>
          <p:cNvSpPr/>
          <p:nvPr/>
        </p:nvSpPr>
        <p:spPr>
          <a:xfrm>
            <a:off x="2843280" y="1485720"/>
            <a:ext cx="603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Ik kon horen dat er iets op de plankenvlo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gesleept we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Na een lange pauze werd de deur geope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6" descr="Imagev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4"/>
          <p:cNvSpPr/>
          <p:nvPr/>
        </p:nvSpPr>
        <p:spPr>
          <a:xfrm>
            <a:off x="1476360" y="709560"/>
            <a:ext cx="7189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Arial"/>
              </a:rPr>
              <a:t>Een klein vrouwtje rond 80 jaar stond voor mi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Arial"/>
              </a:rPr>
              <a:t>Ze droeg een jurk met bloemenmotief en een hoed m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Arial"/>
              </a:rPr>
              <a:t>slui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Arial"/>
              </a:rPr>
              <a:t>Net iemand uit een film van 19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7" descr="Imagbe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6"/>
          <p:cNvSpPr/>
          <p:nvPr/>
        </p:nvSpPr>
        <p:spPr>
          <a:xfrm>
            <a:off x="1646280" y="3787920"/>
            <a:ext cx="600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aast haar stond een kleine lederen koff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Image3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4"/>
          <p:cNvSpPr/>
          <p:nvPr/>
        </p:nvSpPr>
        <p:spPr>
          <a:xfrm>
            <a:off x="611280" y="3330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Het appartement zag eruit alsof er sinds jaren niemand in gewoond h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Alle meubels waren bedekt met lake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7T21:51:05Z</dcterms:created>
  <dc:creator>sylvie</dc:creator>
  <dc:description/>
  <dc:language>en-US</dc:language>
  <cp:lastModifiedBy>Smets</cp:lastModifiedBy>
  <dcterms:modified xsi:type="dcterms:W3CDTF">2011-04-27T18:37:11Z</dcterms:modified>
  <cp:revision>12</cp:revision>
  <dc:subject/>
  <dc:title>Diapositive 1</dc:title>
</cp:coreProperties>
</file>