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743-E918-481B-A388-7D7A13B4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F83-BE86-40D3-8550-B43DE98E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5CA-D012-41DD-B31C-14A24271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C00-FD67-497D-84C5-B276B1BF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CBE-FE28-48A9-A752-A547FBD7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39E-7053-4C77-99DD-821E1F01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375-2891-44EB-96DE-2D63C221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95B-A96A-43F1-A42E-B678FEC8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26D-0280-4E2F-9116-A8718690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283-FEF6-4109-8A8F-1588DA49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012-2E75-42BD-93DA-83D3CA16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7BC-B581-45D6-B879-472022C3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3A384-D970-41D2-A92A-925075B5236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499C0-DD19-4F49-9B14-1B6CE483139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7:10:27Z</dcterms:created>
  <dc:creator>최봉수</dc:creator>
  <dc:description/>
  <dc:language>en-US</dc:language>
  <cp:lastModifiedBy>맛있다 군만두</cp:lastModifiedBy>
  <dcterms:modified xsi:type="dcterms:W3CDTF">2024-10-01T02:48:24Z</dcterms:modified>
  <cp:revision>4</cp:revision>
  <dc:subject/>
  <dc:title>슬라이드 1</dc:title>
</cp:coreProperties>
</file>