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DC1-28D4-43D9-8A02-86F33638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57A-02B0-44E5-ADA6-F4AC6CA5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9F2-7E44-42A0-816D-ACA1E399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815-56F6-494A-BBC4-8C59B8B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C4C-E042-4CFC-B8A1-E208F5D1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94B-4B3C-4137-9846-C29D569A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D28-0DDD-4681-B6AF-7E01BA75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550-869D-4065-B780-BC032C35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28E-C068-4120-9C8A-4EAC61BC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68C-1515-4BDC-BEE0-EBD095D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C0C-853F-4E39-AE61-925FC0A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E4F-0FCB-4A8B-8C76-274CDD9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24337-98F4-4693-B37F-00D2C315AE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3A412-75C1-49CF-A2B7-4D9F74208B6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7:10:27Z</dcterms:created>
  <dc:creator>최봉수</dc:creator>
  <dc:description/>
  <dc:language>en-US</dc:language>
  <cp:lastModifiedBy>맛있다 군만두</cp:lastModifiedBy>
  <dcterms:modified xsi:type="dcterms:W3CDTF">2024-10-01T02:48:24Z</dcterms:modified>
  <cp:revision>4</cp:revision>
  <dc:subject/>
  <dc:title>슬라이드 1</dc:title>
</cp:coreProperties>
</file>