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Jannes%20-%20Echte%20vrienden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FF6-4161-457C-A2A7-8730889B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669-1E51-4E13-9621-77B443D1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278-9D28-4A10-9191-B2BB660A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E2B-A913-4FE2-A007-577E9365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571-DB7A-4C5E-96A0-65FE6290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733-0956-4107-8CE5-35673F5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346-9A1A-4694-BB09-214E6FEA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DA8-BDA8-4434-AE65-E71AD256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3EE-7778-4234-B4E8-89BECB5E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EAA-39F1-432E-A394-BD9CAF5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F5A-63D7-47E2-B84F-1E67CCC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9F9-1249-4DC0-87DA-16B6110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65D-9A34-4959-899C-B2F9A9FF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nnes%20-%20Echte%20vriende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0720" y="119700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vriendsch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16640"/>
            <a:ext cx="2592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Een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de K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880" y="476280"/>
            <a:ext cx="792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mdat we mensen zonder vleugel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en engelen kunnen noem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oemen we ze vrien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69280" y="1498680"/>
            <a:ext cx="612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et mooie van vr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is dat ze kunnen groe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zonder uitelkaar te groe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58000" y="1425600"/>
            <a:ext cx="46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Waar je ook b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et zijn je vr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ie je wereld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14000" y="1282680"/>
            <a:ext cx="594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oede vriend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zijn lastig te vi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oeilijk te verla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n onmogelijk te verge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47840" cy="244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72360" y="333360"/>
            <a:ext cx="2428920" cy="237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26720" y="2938320"/>
            <a:ext cx="32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Wees blij m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e vr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ie je h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8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800"/>
                            </p:stCondLst>
                            <p:childTnLst>
                              <p:par>
                                <p:cTn id="9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1:20:33Z</dcterms:created>
  <dc:creator>Frank</dc:creator>
  <dc:description/>
  <dc:language>en-US</dc:language>
  <cp:lastModifiedBy>Smets</cp:lastModifiedBy>
  <dcterms:modified xsi:type="dcterms:W3CDTF">2010-02-15T20:06:14Z</dcterms:modified>
  <cp:revision>3</cp:revision>
  <dc:subject/>
  <dc:title>Dia 1</dc:title>
</cp:coreProperties>
</file>