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Jannes%20-%20Echte%20vrienden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1E2-024A-41F8-ABFA-168D95A8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2E9-D463-43F1-B37E-436C2832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8EA-3851-4928-851D-932D2B3F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854-65F4-4D12-8A74-F3EA72F5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F48-99D7-4BD5-98F2-BA9A2C3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793-D180-45AD-92E9-4E66793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B56-36A3-4B7B-A237-A7AF3C71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4C2-E259-4276-BB56-B79CE74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AAB-8981-4F1A-9BC1-13A5B4F9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BCB-F937-4943-BF37-4DC3E151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4DD-E528-42F1-A93A-2318ABF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CA7-6F75-4F37-B56F-08E4136B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9FFD-1A95-441D-AC6C-8D11D80FA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nnes%20-%20Echte%20vriende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0720" y="119700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vriendsch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516640"/>
            <a:ext cx="2592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Een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de K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880" y="476280"/>
            <a:ext cx="792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mdat we mensen zonder vleugel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en engelen kunnen noem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oemen we ze vrien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69280" y="1498680"/>
            <a:ext cx="612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et mooie van vr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is dat ze kunnen groe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zonder uitelkaar te groe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58000" y="1425600"/>
            <a:ext cx="46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Waar je ook b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et zijn je vr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ie je wereld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14000" y="1282680"/>
            <a:ext cx="594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oede vriend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zijn lastig te vi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oeilijk te verla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n onmogelijk te verge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47840" cy="244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72360" y="333360"/>
            <a:ext cx="2428920" cy="237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26720" y="2938320"/>
            <a:ext cx="32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Wees blij m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e vr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ie je h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8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800"/>
                            </p:stCondLst>
                            <p:childTnLst>
                              <p:par>
                                <p:cTn id="9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1:20:33Z</dcterms:created>
  <dc:creator>Frank</dc:creator>
  <dc:description/>
  <dc:language>en-US</dc:language>
  <cp:lastModifiedBy>Smets</cp:lastModifiedBy>
  <dcterms:modified xsi:type="dcterms:W3CDTF">2010-02-15T20:06:14Z</dcterms:modified>
  <cp:revision>3</cp:revision>
  <dc:subject/>
  <dc:title>Dia 1</dc:title>
</cp:coreProperties>
</file>